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EBF-307A-46E0-B27F-C635336F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35C-25A7-4A5F-BADE-978E77FA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D13-7B3C-411C-8D5D-CD2FE76A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64F-8449-43B7-9693-6E8386E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C27-A75E-4973-88AF-2427D8FF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C9A-270C-4B09-BABE-D523631F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4B7B-5A0A-464B-907E-A955F05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D24B-BC36-4DCE-8DA5-192F1E6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0868-83BE-49BF-928F-5A0718DF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E298-B90E-46D7-B83D-B9A0D339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033F-8458-4626-92AE-CB288FD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CDB-7B8D-47DC-90DD-41785FA0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987-5012-40B5-9D2C-B81A922B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5427-A0C2-4BF9-BE0F-521E10E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A9AB-42A4-4462-9BAD-641050B8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B9A-87C0-4717-A6F1-684945BD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5FD0-1B5F-498E-AB09-5FF935B6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12A-91C9-41B9-A4DF-7B54B0E0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7F0-AE3B-4A8D-8F80-9FA446B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940-F647-46B3-BCC5-78C5F6A9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D8B-5174-4A05-961F-F62502A2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CC6-400F-4269-8B99-BAC8FF80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BC3-4484-42D2-ADE3-E41EE87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583-9062-46F1-A56A-D8265B9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42B-DA0B-4445-BFEE-CC6E47211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958F-BE21-4D4A-8509-685713321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scribing Types of Change in Graph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64880"/>
            <a:ext cx="37339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259680" y="4159080"/>
            <a:ext cx="2884320" cy="2698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8520" y="1303200"/>
            <a:ext cx="85755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graphing functions or linear equations, the result will be a line that is created by connecting various solution sets, expressed as points (x,y).  The lines can be described using the following vocabula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reas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Decreas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Consta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1480" y="5022720"/>
            <a:ext cx="1820880" cy="151776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30840" y="4946760"/>
            <a:ext cx="928440" cy="1670040"/>
          </a:xfrm>
          <a:prstGeom prst="line">
            <a:avLst/>
          </a:prstGeom>
          <a:ln w="414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69200" y="4719600"/>
            <a:ext cx="2674800" cy="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n’t a line be both increasing and decreasing, depending on how you look at it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great question.  The simple answer is ‘no’ because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ust always read lines from left to r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you us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describe how these two lines are 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254560" y="4111560"/>
            <a:ext cx="2884680" cy="6066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31200" y="1835280"/>
            <a:ext cx="758880" cy="2733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Tr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whether the line of each color is increasing, decreasing or constant in the graph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) 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)  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) 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)  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,)  p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)  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91080" y="2319480"/>
            <a:ext cx="4552920" cy="45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5103720" y="4946400"/>
            <a:ext cx="1516320" cy="6080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9200" y="3808440"/>
            <a:ext cx="2125440" cy="76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5175360"/>
            <a:ext cx="1820880" cy="151740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99160" y="2670120"/>
            <a:ext cx="4022640" cy="3718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000560" y="2897280"/>
            <a:ext cx="455400" cy="349092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4567320"/>
            <a:ext cx="197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01-21T19:51:35Z</dcterms:modified>
  <cp:revision>9</cp:revision>
  <dc:subject/>
  <dc:title>The Coordinate Plane</dc:title>
</cp:coreProperties>
</file>